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1EF6-AD32-4CB3-83C9-1CBECAB1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8958-28EC-4D85-BE25-B9BD61F6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AF3-C248-4B97-91D5-F420B39D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FA87-D503-4DBC-85C6-D9C563FB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508E-5125-4396-A7E4-ED8B3B30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EEE4-4143-4149-82C2-8514B25C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5923-0D8E-497C-8A53-F991B639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E5D3-111C-4D41-A123-8561E76C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2231-6A5C-4153-AEA0-1A315F5E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C26D-7E5E-47CB-92D0-DC266CE0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606E-88B3-4137-A56E-1E50031B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EC1-499A-4603-9A37-8EB343EF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34BE-5F8E-47D0-9DDC-D73BF1AF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A0BA-7172-4A48-B4CB-A199A98C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6B6A-7C8A-4F05-ACD0-990ECEF4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D7C0-C736-429D-B329-11927DD5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54B5-72BA-43E7-A303-404D2187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1C09-DF44-42B6-B69D-2F06422D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281-136C-4600-81D1-7750274E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881D-7508-41A8-9BED-2EF64318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B48D-AEAF-481B-9F38-37634543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1421-5CC2-4678-B386-F5220B79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EBD4-751A-497B-A5E5-7A53F2DF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064-949C-4A6C-88CE-AEC2734A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8CFD-80DF-482B-872F-A060DBEBE5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6449-7E56-42B4-B94D-173777000F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4.jpeg"/><Relationship Id="rId3" Type="http://schemas.openxmlformats.org/officeDocument/2006/relationships/image" Target="../media/image56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Baby Butterflies: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Butterfly Lifecycl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ek Pa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SF North Mississippi GK-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of Mississip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ril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utterfly Body Par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le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antenn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body p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w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osc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9920" y="2286000"/>
            <a:ext cx="24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 all ins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1600200"/>
            <a:ext cx="457200" cy="1828800"/>
          </a:xfrm>
          <a:custGeom>
            <a:avLst/>
            <a:gdLst>
              <a:gd name="textAreaLeft" fmla="*/ 0 w 457200"/>
              <a:gd name="textAreaRight" fmla="*/ 16488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ix Leg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600360" cy="3314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86400" y="4572000"/>
            <a:ext cx="1295280" cy="609480"/>
          </a:xfrm>
          <a:prstGeom prst="leftArrow">
            <a:avLst>
              <a:gd name="adj1" fmla="val 50000"/>
              <a:gd name="adj2" fmla="val 53131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6069000">
            <a:off x="3467160" y="5219640"/>
            <a:ext cx="1295280" cy="609840"/>
          </a:xfrm>
          <a:prstGeom prst="leftArrow">
            <a:avLst>
              <a:gd name="adj1" fmla="val 50000"/>
              <a:gd name="adj2" fmla="val 53099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3733800">
            <a:off x="4456800" y="5067360"/>
            <a:ext cx="1295640" cy="609480"/>
          </a:xfrm>
          <a:prstGeom prst="leftArrow">
            <a:avLst>
              <a:gd name="adj1" fmla="val 50000"/>
              <a:gd name="adj2" fmla="val 53145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wo Antenna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5151600" cy="3932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rot="2377200">
            <a:off x="5638320" y="1219320"/>
            <a:ext cx="762120" cy="1295280"/>
          </a:xfrm>
          <a:prstGeom prst="downArrow">
            <a:avLst>
              <a:gd name="adj1" fmla="val 50000"/>
              <a:gd name="adj2" fmla="val 42489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9558200">
            <a:off x="3352320" y="1066320"/>
            <a:ext cx="762120" cy="1295640"/>
          </a:xfrm>
          <a:prstGeom prst="downArrow">
            <a:avLst>
              <a:gd name="adj1" fmla="val 50000"/>
              <a:gd name="adj2" fmla="val 42501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cut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ree Body Par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80880" y="2895480"/>
            <a:ext cx="3962520" cy="228600"/>
          </a:xfrm>
          <a:prstGeom prst="rightArrow">
            <a:avLst>
              <a:gd name="adj1" fmla="val 50000"/>
              <a:gd name="adj2" fmla="val 433346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4876560" y="3200040"/>
            <a:ext cx="3733560" cy="228600"/>
          </a:xfrm>
          <a:prstGeom prst="rightArrow">
            <a:avLst>
              <a:gd name="adj1" fmla="val 50000"/>
              <a:gd name="adj2" fmla="val 408307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038480"/>
            <a:ext cx="4343400" cy="228600"/>
          </a:xfrm>
          <a:prstGeom prst="rightArrow">
            <a:avLst>
              <a:gd name="adj1" fmla="val 50000"/>
              <a:gd name="adj2" fmla="val 475000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23623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4120" y="358128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94040" y="266688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r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cut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our Wing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23880" y="2021040"/>
            <a:ext cx="6400800" cy="3354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2369400">
            <a:off x="609120" y="1676520"/>
            <a:ext cx="1828800" cy="609480"/>
          </a:xfrm>
          <a:prstGeom prst="rightArrow">
            <a:avLst>
              <a:gd name="adj1" fmla="val 50000"/>
              <a:gd name="adj2" fmla="val 75015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9290600">
            <a:off x="1828800" y="4952880"/>
            <a:ext cx="1828800" cy="60984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3389600">
            <a:off x="5867280" y="4800240"/>
            <a:ext cx="1828800" cy="609480"/>
          </a:xfrm>
          <a:prstGeom prst="rightArrow">
            <a:avLst>
              <a:gd name="adj1" fmla="val 50000"/>
              <a:gd name="adj2" fmla="val 75015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8188200">
            <a:off x="7314840" y="1218960"/>
            <a:ext cx="1828800" cy="609480"/>
          </a:xfrm>
          <a:prstGeom prst="rightArrow">
            <a:avLst>
              <a:gd name="adj1" fmla="val 50000"/>
              <a:gd name="adj2" fmla="val 75015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cut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bosc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4800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400800" cy="4824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638680" y="4572000"/>
            <a:ext cx="2438640" cy="380880"/>
          </a:xfrm>
          <a:prstGeom prst="leftArrow">
            <a:avLst>
              <a:gd name="adj1" fmla="val 50000"/>
              <a:gd name="adj2" fmla="val 160066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cut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44444E-006 L 0.05 -0.03888 E">
                                      <p:cBhvr>
                                        <p:cTn id="116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utterfly Body Par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leg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antenna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body par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wing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utterfly Lifecyc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Ste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va (caterpill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pa (chrysal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g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2489400" cy="2565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2412720" cy="2565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898000" y="434340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rch Butterfly E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27000" y="434340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y to H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 days la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arva (Caterpillar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m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ts consta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ds 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1816200" cy="2463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429000" y="3352680"/>
            <a:ext cx="1994040" cy="2476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172200" y="3378240"/>
            <a:ext cx="2168640" cy="24890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070280" y="579132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bo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erpi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41040" y="586728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 week la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27360" y="586728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ll Gr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 weeks la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utterfly Examp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819520" cy="2550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34120" y="1219320"/>
            <a:ext cx="3124080" cy="2485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971800" y="3886200"/>
            <a:ext cx="2921040" cy="2065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945760" y="36576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acock Butterf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43160" y="37339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ue Morp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7320" y="594360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en of Spain Fritill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upa (Chrysalis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 shell protects pu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goes metamorph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2443320" cy="2952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581280" y="2971800"/>
            <a:ext cx="2259000" cy="29671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705720" y="2971800"/>
            <a:ext cx="1858680" cy="2971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40600" y="594360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va Atta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17320" y="59436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eds Sk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09320" y="5943600"/>
            <a:ext cx="18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ysalis Beg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upa (Chrysalis) Continue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895480" cy="4114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486400" y="1676520"/>
            <a:ext cx="2362320" cy="4140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27840" y="579132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ysalis Compl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93840" y="57913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most Ad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1 Days La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ult</a:t>
            </a:r>
            <a:br>
              <a:rPr sz="44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Hatching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2540160" cy="3492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276720" y="2362320"/>
            <a:ext cx="2539800" cy="3492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6172200" y="2362320"/>
            <a:ext cx="2562120" cy="35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ult</a:t>
            </a:r>
            <a:br>
              <a:rPr sz="4400"/>
            </a:b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Inflating Wing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2209680" cy="3809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248520" y="2057400"/>
            <a:ext cx="2436840" cy="3809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352680" y="2057400"/>
            <a:ext cx="2286000" cy="37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ul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3098520" cy="32004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4216320" cy="3149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907280" y="510552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y To F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1760" y="510552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ying Eg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utterfly Lifecyc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1920960" cy="1981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589720" y="1447920"/>
            <a:ext cx="1725480" cy="1981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1600200" y="4267080"/>
            <a:ext cx="1919160" cy="1981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5746680" y="4343400"/>
            <a:ext cx="1393920" cy="19810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8077320" y="2362320"/>
            <a:ext cx="761760" cy="2895480"/>
          </a:xfrm>
          <a:custGeom>
            <a:avLst/>
            <a:gdLst>
              <a:gd name="textAreaLeft" fmla="*/ 101880 w 761760"/>
              <a:gd name="textAreaRight" fmla="*/ 659880 w 761760"/>
              <a:gd name="textAreaTop" fmla="*/ 506520 h 2895480"/>
              <a:gd name="textAreaBottom" fmla="*/ 209916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0800000">
            <a:off x="533520" y="2438280"/>
            <a:ext cx="761760" cy="2895840"/>
          </a:xfrm>
          <a:custGeom>
            <a:avLst/>
            <a:gdLst>
              <a:gd name="textAreaLeft" fmla="*/ 101880 w 761760"/>
              <a:gd name="textAreaRight" fmla="*/ 659880 w 76176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236232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0800000">
            <a:off x="3809520" y="510516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11840" y="33526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88440" y="335268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Caterpill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65960" y="63244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pa (Chrysal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35880" y="62485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edits and Sourc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ek P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F NMGK-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y of Mississip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ase see accompanying word docu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by_butterflies.d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ississippi Butterfli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1828800"/>
            <a:ext cx="73915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wallowt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tes and Sulph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ssamer-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ush-Foo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kip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wallowtai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4495680" cy="244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19920" y="1371600"/>
            <a:ext cx="2293920" cy="2438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791320" y="4141800"/>
            <a:ext cx="2666880" cy="2095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505320" y="4114800"/>
            <a:ext cx="1917720" cy="2136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762120" y="4114800"/>
            <a:ext cx="2361960" cy="210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ites and Sulphu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4876920" cy="2652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629400" y="4038480"/>
            <a:ext cx="2087640" cy="2451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33520" y="4038480"/>
            <a:ext cx="5105160" cy="2482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33520" y="1219320"/>
            <a:ext cx="2666880" cy="264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ossamer-W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2414520" cy="266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283440" y="1219320"/>
            <a:ext cx="2415960" cy="2666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352680" y="1219320"/>
            <a:ext cx="2468520" cy="2666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57200" y="4114800"/>
            <a:ext cx="2209680" cy="2181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3124080" y="4038480"/>
            <a:ext cx="2895840" cy="2241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477120" y="4038480"/>
            <a:ext cx="2222280" cy="22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rush-Foote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943600" y="1371600"/>
            <a:ext cx="2933640" cy="2314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5486400" cy="2297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2514600" cy="2370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410080" y="3809880"/>
            <a:ext cx="3429000" cy="2389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3124080" y="3809880"/>
            <a:ext cx="1981440" cy="23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rush-Foote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2450880" cy="2450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4495680" cy="2435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85800" y="3733920"/>
            <a:ext cx="2311560" cy="2438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125880" y="3733920"/>
            <a:ext cx="2208240" cy="2438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486400" y="3733920"/>
            <a:ext cx="3027240" cy="238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kipp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2895480" cy="2438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809880" y="1219320"/>
            <a:ext cx="2667240" cy="2403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33520" y="3733920"/>
            <a:ext cx="4952880" cy="2519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858000" y="1219320"/>
            <a:ext cx="1760400" cy="2361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943600" y="3733920"/>
            <a:ext cx="2666880" cy="253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23:02:58Z</dcterms:created>
  <dc:creator>Derek Andrew Park</dc:creator>
  <dc:description/>
  <dc:language>en-US</dc:language>
  <cp:lastModifiedBy>Derek Andrew Park</cp:lastModifiedBy>
  <dcterms:modified xsi:type="dcterms:W3CDTF">2005-05-02T19:43:42Z</dcterms:modified>
  <cp:revision>11</cp:revision>
  <dc:subject/>
  <dc:title>Baby Butterflies: The Butterfly Life Cycle</dc:title>
</cp:coreProperties>
</file>